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325-D431-4355-9415-5982AA2F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D43-40AA-4095-A7F3-D08960BD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923CB-F4AF-45D0-AD5F-46B2DEAA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30B87-A388-4CE5-910F-59F59996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717A2-43DA-4ADC-A9ED-B7E7D196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1D52E-C20B-4D1F-90BF-D76672E8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B07EE-3A00-4371-A567-3F31E4BD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6CDBE-470F-431C-BF47-C14EFFB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E4484-E78E-4F4E-9E99-47CB9930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9F783-CADF-46E0-B939-215D86FE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2514B-6376-4A53-BB10-8FF9F13D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8102B-4D36-4D86-B289-9B41BD9E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C53-327F-4DC0-B5C7-3C5F8A31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AD0CE-1449-46F2-9CFC-271048C6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43AEB-8000-46C8-B1EB-311D55E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DF9EB-F899-425E-B295-BA8CBA4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8AB2F-8B4E-4C97-B90C-2531CC16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39C01-00EA-494E-9AD1-955D114D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93E04-6D20-416D-A986-A866F1F6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8C41B-7C0B-4284-AF84-F24CFF41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020CE-D4B7-449B-B415-A11B03A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1DEDF-7C28-4EAB-8FD5-D2582B57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D1762-ADD2-404E-88E8-81A9D690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49D-352B-4202-871D-B52E4AB1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D10B3-5E59-42BF-B211-117557FA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5F4BA-95A8-4F88-99AF-AFF4D674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90AD9-952B-4F67-8744-13F82771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05E81-3D32-4AE0-9233-A44DD4FC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746DD-912C-4F95-A234-C2FEE72E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0D8D6-99F3-4471-9CF5-582C24BE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BE42A-908D-4F98-AF26-21BB073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466A8-0123-47D0-912D-8657A3E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1A7A1-6BF0-4AB5-A871-3E4E3DB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5462D-A110-44BA-85E2-1E0F7BA9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79B8-4F9F-44F8-BC89-C418B661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573FD-7874-4CE7-A93A-BCCC4FE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153F0-A58C-43EF-896C-B05074F6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C8949-314C-4C60-A5C4-E676BF9F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061B4-BD9A-4A4E-A206-041AE8AD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6EFDD-F5D2-4EAF-9D54-DE5A747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4E422-9CC3-493F-B00E-075CBA25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81CE0-A9FE-42A5-A981-D5E472F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22DA1-7D33-4C39-9571-62096729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0DAFE-094A-486D-92B6-CBB5BC0C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5EE8B-8A03-4A75-B468-D8722FFE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CC82-A47F-49F3-BDFE-A8A7DA91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AB451-452A-465C-8576-04936AF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F82CF-967C-4952-AD1B-CE851E68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742C6-6700-4BEF-A576-47B17FB3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C1E3A-3F16-4DFE-B970-9DDF956F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44A21-9FCF-475C-8C08-FADCFEE2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AF3BC-0347-4294-9629-6778BC6D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54A7C-1967-4FCF-A2C4-AC1693B1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FAE13-C824-4250-8153-00A75B5B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C4975-0857-4143-B4B8-DDCA8381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A848A-2D33-4383-833D-B0445311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7341-BA97-4D95-9159-2970E9B4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0FB46-4C66-469A-AD21-4B10FE9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7AA3E-F87C-449A-9FC9-9ACCFA2C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1BBD6-BAC5-413F-9800-BF98927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6D2B9-C982-4554-B5F0-98CA77BD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32D14-F143-48F0-AC06-5F75202B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FA3A1-4282-486C-B684-22E58FE9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2467C-4A6B-4FD8-B97A-12011B1F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EAE64-2876-4788-93F7-AA3659B1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67681-10BF-4B89-A31B-4A838912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0F2BB-F33C-4851-9273-8E100725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8DAF-2BCB-423E-8C4B-E0F468B5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378A1-9885-4065-ACF4-54E69027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DECF4-9732-4FBD-BBB5-FC4B3514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7566F-11CB-4244-9EF5-3AAEF4C8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F3F23-9785-4CAB-A94C-537575D9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D14EB-CE11-4C26-8960-B1847B35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61D28-11F3-4C64-8BF8-C8399C6C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CCE86-9E1B-4FA7-8B43-5927525E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0B6C5-78C8-4539-BEBD-E2DA2F4D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F37DF-B0ED-4A21-9EE0-4EDD098D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67EA2-92E7-411A-8CBD-FD3A35A6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0951-2443-4AF0-B2E8-E2BA7A95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70E91-DC1C-4C65-B3B8-9DE7D2E7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0C218-D9B1-455F-B801-7CFA3473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1BF97-09A8-4369-8B21-0EDCB35F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7B4A7-53C2-44D5-A558-661A313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197DC-C163-4277-A7F6-CA87FDB0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FF4EA-3C01-444E-878F-D9B1D02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2924A-23B2-41D4-BB17-9F7BA0A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D17FC-75AC-41F2-864A-67D77FC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75009-DD81-4747-AB95-CAF362E9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96B87-D9DA-4985-ACB9-37DE0562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FC2B-6F4D-430A-ABC7-0F3BD13B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7F888-F565-461A-880A-3FC97BD6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BCEBA-1E88-4FBC-A65A-4751F104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CB854-426D-4046-846B-4AE3A83C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2B57D-DB72-46B8-8F52-45746B68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99555-A683-4B2A-8CD3-A520205F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8895E-FB55-459C-8A5F-2D0E244D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D51AB-E7AA-4F7F-B5BE-8E010197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5ACD6-7372-4691-A990-36C936A4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99A66-8255-4B24-AC44-F08DBED6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B65177-A274-4EB4-BC58-7F35D827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B6CA-5C2B-463C-A6D8-71FB77F7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1F5747-B51C-4A93-908B-A54DB81A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B2D9A-2809-40EC-A479-C389E688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36602-1CE9-4EDE-9678-C09AF69E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B16BC-58F8-4C13-86A7-CDE5BB86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EF6AE-FEFC-4C22-B926-FDB14717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E4F16-F4A3-40FD-AC8D-E84CFDB8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67442-DEE3-4FF4-BF31-22FC6121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05C2E-37DE-4FB6-9CCD-C9A31105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ADE97-CFB3-4068-9DE6-AC74C2F3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D3550-17D1-48C0-BEEF-8949621C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F73-68B0-4228-8754-2FB46262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4AB2-EA02-4E28-B6D5-A0EECFF1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1D745-07A0-4A8A-97E1-C5EBABFE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4C113-DBBA-4AF6-889C-6D477B48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16A2D-EC85-467F-8260-BC1B936E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1F318-59EE-411A-96D4-9571A25F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929B3-E15B-47A3-BD54-99662037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957E7-B8E4-4C3D-8971-3FA6F473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EA9E9-37C5-4367-B5FA-22AFC599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F4FA7-F13B-4584-B8C0-89EC7827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BF538-470C-439A-A71A-03DEC6B7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242E20-2E44-450E-8B5B-5BD85A46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B973-E9CB-4397-B05E-6B875EC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A4A88-6490-4806-8168-27E99D1F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EB429-5A43-4978-8D6B-AD9BD556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2DD6B-AA26-4610-B520-BFB652A5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3639A-BB69-40B6-A6E9-AAF66363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5D33CF-6CA7-471B-AC2B-50443E4C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AF0A4-F8A2-4C62-B06C-CDB10E95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D26A3-004E-4471-80FA-06AE354B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5ADCF8-961C-4BFC-9B04-2F19C3A2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3A7C1-A81B-47A0-B693-D0CBE909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1555D-E562-4E6B-B054-66DB1173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91F9-214A-4333-AFC1-50157780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3D41C4-13C6-4DE0-9442-1F1B3D72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B9578-9511-43F0-BBC8-AB660EE5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520B5-3E10-4F6A-9501-952AD67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F3048-3B84-4CCF-8658-F1E3B9D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C54E51-F633-4784-BC5E-2B30D978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8AE7B-F678-4B12-8351-C08F7D1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9C54E-ACDB-4569-B387-4548C9F1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F2CEC-74D3-41EB-8EBC-B0070D40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26CA1-85D0-4B0E-BCD1-E4FB360D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23045-FCF1-4A66-AA08-6FBB4F22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4B58-5774-46B9-B40F-80114612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A1B256-A00C-468C-AEC7-2C1DC6D0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3A7EC-8082-49FB-90A2-A9867DFF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E4DAF9-F72A-4C8B-86E6-7FFDDA42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001A2-C32C-4850-8370-1C9BE4F8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47D3A6-8471-4610-B197-D209F5FC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F75833-CC65-49EC-8F84-9C0315A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FE8B83-A351-4BB8-8864-BB68A0C8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105CD-1DB9-4527-82C4-F330337B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CA32F-9A30-4091-AAEE-956BE142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E6E0A-EF41-4335-BE32-F7315DB0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F659-B36A-4B31-BC92-0D1F68E3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77B91-4FB8-4968-BCE8-FFDF8E22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2A9EEA-46C6-47A8-81BB-399690D5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615947-CF58-4BB8-BDB8-0FB7E17B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C5457-879F-49AB-B66F-3465BD27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F8138-C2B0-4F78-929A-84917C1A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0A8EE-566A-446F-B43A-652AD208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B95794-6729-4707-8A20-6CFA579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E19A3-E604-4E10-8F79-B4BB889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20231-68CD-440F-A05D-1C8B5A2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852DF-3F52-461D-B0D4-EB7D65B7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81CB-251C-46C0-A8C7-5A6741D6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76EBB-0863-42C1-B5F0-C90675C0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FEB22-7551-41D1-ADF2-76E7681B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93E6D-A3CE-4E51-90EF-0B64C0EC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7147-576A-4A16-98CF-337B5197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6AAA-1C30-417C-AD38-A3F22B5E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45A29-5023-4D02-B7AE-4C62B313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1329-B2A1-4B24-9A3E-F284C1CC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875-25CF-4430-9F0B-9F94B704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3E4D-9D56-4E58-B45F-520A0C47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7B3C-DF83-4A8A-AF31-5445748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D3CA-19AA-42E3-8BDB-A53FF6C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63AA-01CF-447F-A457-396C989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316C-B539-4917-8E6C-087AFDD8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7836-A344-456E-98CD-159F17DF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E41E-71AA-4078-A47B-ECF3444C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D1D66-E9B5-4B29-B894-34A60F20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5A89-3379-4731-9162-DE022363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D627-E760-4D61-939B-F2C1E517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BE3-A553-46EC-AA6D-DA305109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FEF7-13BB-47EC-AB8B-6570AF7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78CB-B70F-49B7-8A8C-05CD4F53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D84B-D13A-4AF8-9176-AA7A224A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E1D9B-9220-4709-9B98-6B921BF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1954-6E1B-4072-8AB0-67C0A5E7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1B72-1F18-4F96-8A56-A9EFC1DF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022AF-2ABF-4A7D-9B01-CFB3B806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4B586-9AA0-4A01-965E-C3738F81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9533-EB00-48BA-83E7-672AFA01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9EE0-C23A-41A6-A3E9-C9F45996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0B8-CC6D-4F6C-96DA-82A583C6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CBEF-493B-4EAE-98E6-0CB38469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46AF-6D8C-4B33-B8F8-6FA5164E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819B4-9AF6-4A31-BC97-3B306AD8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DB41-3E50-45B3-8ECA-1C84382F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DB3F-DD71-49B8-95F6-BB28C154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A0A3F-3834-485A-93A7-3ECE4512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80972-1DCA-4943-BC67-7D731FA7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4C03E-4566-4BAF-9E4D-4906C3CE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E0BE6-67FC-4249-8154-99A25A72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341D0-DF13-4ABA-B705-3253AB77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AAE-7C8A-4FA9-B120-0A3407F5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C1EE9-EF9F-441D-8C2E-DEF6805D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30269-B660-44A8-9911-788046D4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397B-2366-485E-AC0A-4B9A408C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4B16A-7BE0-410F-9D7E-71129E95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302B7-28B4-4438-80C4-7B0C0016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EE438-FFFF-426A-916D-66F9DDC6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B8C94-F23D-4086-8735-2A4FD14E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953F4-0FDE-4856-B6C0-ACBC93B3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22D55-81F2-4400-B4A4-91967FC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CBBDA-FA3C-4E87-876E-D109631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F38-680A-475E-8176-F7F66A0F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1F732-458A-41FF-A5CC-8C05C384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5A77-3A08-45F0-9672-E4A91309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8997-34F0-485E-9750-54F740B5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21C7-7350-473E-A589-088E07D0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557CD-5A38-4CEC-B660-B01238C7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E502A-737A-464F-8CB0-3A41D3AF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FEA84-5935-4DCA-BAB1-D4F770F6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33CF3-FF40-4DC4-A45F-A4663085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F020A-430D-4367-8B80-8A0EBC01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4ACF-0F4A-432A-BCC1-6CCF12DB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ACC-3A58-4B7E-A7A3-E5017FE5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F3632-9655-4574-ABC9-E16A816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2FC70-BEE4-41E5-A42E-591A42D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D07C-9DB1-4B6B-8A45-7F20F775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9B639-C670-4E4C-96C5-BCE95922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B3660-BD88-4430-936A-26E6736B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549DA-047D-44E2-989B-015D0EE5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5152-1DCC-4F40-BDAB-8BD6035A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6D655-34CF-41DC-9704-C32C8076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4BACB-9797-4690-B79D-25E13070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9B6E5-ADCD-467E-BC80-11DEBAB4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F6F-5207-45EE-8F5F-EFE320EA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D6D41-CB72-4C1F-AE27-1061C735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44153-4ED5-4049-8403-2E6288D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AB125-3F2B-432A-B943-0F48A3BC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AC2F8-CADF-4F0F-B681-0779D81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F59E3-A440-42B8-AC23-B45E6565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43486-42E8-4FA6-BDBE-9CE47633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2272D-ACED-4307-B49C-E08B8B73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74E5F-8324-4184-BD44-D4B70B11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265CD-3071-472A-AA72-C428058B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2AA0C-5CFA-4004-91A7-23706552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4B5C-055B-4589-BA2D-386619201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30F2-51C2-4869-A9DD-2810228AA7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04E8-63C4-4C4C-89FC-D30901E96A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1051-D89F-47AC-93AE-3F01610D47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5F88-DCD7-4220-8C85-FC7C0CD00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FFB-5D60-4BA3-9A69-50EE08B09A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98F8-06FE-47FC-BED9-14F9FCFEE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97C2-F0D5-41B0-B210-4224287A9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1DB9-BC53-45E8-934A-57AF6164EC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0BD8-024B-4C95-96F7-460CBE8521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FBB9-8C57-4FD1-82F2-8767169040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288F-A83F-4B0C-B083-079C5ABAAF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C04F-93CE-422D-A7ED-2DEE9F32FC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6907-1CEE-4234-A26A-9213ED9FF8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AC2D-FA87-46A7-A828-71696509AD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106-2D7C-4EE4-9F8D-87228D46E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5014-EDAE-4816-AFD3-96831E56F7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67BF-897A-4384-BF73-03A0F61BE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CDBB-A124-4B08-B546-A6EE9C78A6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27D1-3496-46DB-BE43-FD400FFE2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6190-6490-4315-9AD5-6750BBAF1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85ED-7D1F-46D5-9588-5339A064A5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54E0-F3FB-41DB-9F9F-097EAEEDCD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D2FB-3901-4981-90F3-5F413BE09D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2CC6-A2B3-478A-A67E-B156566E67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FA0A-FFB9-42D3-BBF3-6C354B393B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9DBB-F15A-49ED-A740-DB04EDAFA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4552-A553-41F1-91AA-F63702A71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C1A9-BECE-493B-9D07-003F444E25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9174-BACA-4901-A04E-16980776F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D340-BB35-491B-99CC-11084D59FA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27CD-4E21-48D3-B636-35F0FF21AA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200E-FFCA-4F66-AB1F-9C733A58C0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59E3-3A68-4090-B540-4555F5C65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9744-9585-4133-AAA3-B8C4EA372F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9969-4BB3-4002-8BA1-6F785E83BD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611E-4B66-47BB-B59B-44CE0665BC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0A9B-EB96-442B-BC43-E550543DF9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CCE0-E44E-42CD-8B4D-1F2A4164CA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77B-F853-4C05-B0D2-1A249E6628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357280" y="3052800"/>
            <a:ext cx="44294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7934040" cy="355284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643040" y="2643120"/>
            <a:ext cx="92880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4214880" y="2643120"/>
            <a:ext cx="7858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1893960" y="3643200"/>
            <a:ext cx="107136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3429000" y="3643200"/>
            <a:ext cx="92880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1940040" y="4668840"/>
            <a:ext cx="107136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7"/>
          <p:cNvSpPr/>
          <p:nvPr/>
        </p:nvSpPr>
        <p:spPr>
          <a:xfrm>
            <a:off x="3451320" y="4678200"/>
            <a:ext cx="1143000" cy="401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495360" y="1824120"/>
            <a:ext cx="8153280" cy="3209760"/>
          </a:xfrm>
          <a:prstGeom prst="rect">
            <a:avLst/>
          </a:prstGeom>
          <a:ln w="0">
            <a:noFill/>
          </a:ln>
        </p:spPr>
      </p:pic>
      <p:sp>
        <p:nvSpPr>
          <p:cNvPr id="1059" name="矩形 2"/>
          <p:cNvSpPr/>
          <p:nvPr/>
        </p:nvSpPr>
        <p:spPr>
          <a:xfrm>
            <a:off x="1357200" y="2311560"/>
            <a:ext cx="857520" cy="420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"/>
          <p:cNvSpPr/>
          <p:nvPr/>
        </p:nvSpPr>
        <p:spPr>
          <a:xfrm>
            <a:off x="2786040" y="2286000"/>
            <a:ext cx="7142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4"/>
          <p:cNvSpPr/>
          <p:nvPr/>
        </p:nvSpPr>
        <p:spPr>
          <a:xfrm>
            <a:off x="3714840" y="2286000"/>
            <a:ext cx="135720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"/>
          <p:cNvSpPr/>
          <p:nvPr/>
        </p:nvSpPr>
        <p:spPr>
          <a:xfrm>
            <a:off x="1357200" y="3800520"/>
            <a:ext cx="12146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6"/>
          <p:cNvSpPr/>
          <p:nvPr/>
        </p:nvSpPr>
        <p:spPr>
          <a:xfrm>
            <a:off x="3022560" y="3822840"/>
            <a:ext cx="7858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"/>
          <p:cNvSpPr/>
          <p:nvPr/>
        </p:nvSpPr>
        <p:spPr>
          <a:xfrm>
            <a:off x="4357800" y="3786120"/>
            <a:ext cx="64296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847800"/>
            <a:ext cx="8210520" cy="60102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" descr=""/>
          <p:cNvPicPr/>
          <p:nvPr/>
        </p:nvPicPr>
        <p:blipFill>
          <a:blip r:embed="rId2"/>
          <a:stretch/>
        </p:blipFill>
        <p:spPr>
          <a:xfrm>
            <a:off x="2928960" y="428760"/>
            <a:ext cx="3409920" cy="5238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3286080" y="242892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2928960" y="2928960"/>
            <a:ext cx="1714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2286000" y="392904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2143080" y="4929120"/>
            <a:ext cx="3143160" cy="397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3821040" y="5964120"/>
            <a:ext cx="1500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57200" y="700200"/>
            <a:ext cx="822960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28760" y="1623960"/>
            <a:ext cx="82864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10520" cy="61437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928800" y="2143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928800" y="4500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404640" y="1119240"/>
            <a:ext cx="8334720" cy="4619520"/>
          </a:xfrm>
          <a:prstGeom prst="rect">
            <a:avLst/>
          </a:prstGeom>
          <a:ln w="0">
            <a:noFill/>
          </a:ln>
        </p:spPr>
      </p:pic>
      <p:sp>
        <p:nvSpPr>
          <p:cNvPr id="1036" name="矩形 2"/>
          <p:cNvSpPr/>
          <p:nvPr/>
        </p:nvSpPr>
        <p:spPr>
          <a:xfrm>
            <a:off x="928800" y="1285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3"/>
          <p:cNvSpPr/>
          <p:nvPr/>
        </p:nvSpPr>
        <p:spPr>
          <a:xfrm>
            <a:off x="857160" y="3786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04720" y="1628640"/>
            <a:ext cx="8134560" cy="360072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928800" y="1785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785880" y="3714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528480" y="1424160"/>
            <a:ext cx="8087040" cy="400968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2928960" y="1928880"/>
            <a:ext cx="12142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5178600" y="2403360"/>
            <a:ext cx="13222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3160800" y="3421080"/>
            <a:ext cx="1214280" cy="401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2928960" y="3929040"/>
            <a:ext cx="16430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"/>
          <p:cNvSpPr/>
          <p:nvPr/>
        </p:nvSpPr>
        <p:spPr>
          <a:xfrm>
            <a:off x="2428920" y="4929120"/>
            <a:ext cx="12142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523800" y="1952640"/>
            <a:ext cx="8096400" cy="295272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3571920" y="1928880"/>
            <a:ext cx="16430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3929040" y="2928960"/>
            <a:ext cx="178596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4286160" y="3929040"/>
            <a:ext cx="1571760" cy="425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0:5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